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CAB-7973-4237-B026-7B144A1D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AD6-7167-42B5-AE53-98BC686C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DD0-A9A7-41EC-8D25-81A059CA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791-DC5F-4676-B631-3F824A65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5DF9-C525-454E-914E-4C344A28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1EC9-B799-487E-BFD1-67123CB0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2B4F-FB1B-4084-A5AB-2082DEE7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69A1-181D-458E-B951-29811481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F1BD-AB2D-40E0-8490-43035C9F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E034-F2F8-44C1-A77E-85A47267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E39C-6574-416A-B4F7-B9853094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B8E-C09D-4911-8DD8-E00AD9AB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7F0F-5071-49A6-B75E-4868F06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4D13-F607-4E7E-B346-AD4900A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7D02-C6F8-4F48-BB30-A000BD2A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6076-F8B5-4A4F-946C-04D4B9F8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2CF2-3F2F-4805-97C1-99DD6CFD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C09-6E2D-4134-852C-E4253646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75F-43B8-485F-8EBE-0C7F113B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5F2-17A5-4B5F-A686-1072D453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9D0-8883-4970-801B-5AFFE48C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475-0A9A-4D71-851D-2FBC5F6D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664-D8FA-44D6-919F-277958ED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8BA-CC18-4EAD-B1B5-B04AEED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636F-D6A1-4B6B-9C40-EECF9C4C9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9402-418C-4935-930E-842EFA4E1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3 eVLBI Science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Conway, EXPReS Board meeting, Utrecht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n 30th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ture activ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face-to-face eVSAG meeting is a deliverable, around May 200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liverable, EXPReS Science conference, optimum 4 months before project end, November, in Crete??  Or later if we extend proje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uld we extend scope slightly to ‘Real time Long Baseline radio astronomy’ – allo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FAR, eMERLIN etc etc input as well EXPReS, help eVLBI reach wider audienc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ear 2 Activ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 revision of  rules for ‘call for proposals’ before June 1st 2007 dead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flexible ToO policy agreed with CBD, May/Nov 20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 advertising campaign for Feb 1st deadline (initiated by management tea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eVLBI science conference, Nov 2008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al Mechanisms (I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d Rules’ (before June 2007), a specific proposal deadline 2 weeks before each r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Rules’, June 1st, Oct 1st, Feb 1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General proposals, any purpose, inc monitoring, allow spectral line,18,6,5,1.3c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riggered proposals, to be activated within 24hrs of a run based on a trigger condition being fulf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hort obs (&lt;3hrs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al Mechanisms (II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get of Opportunity rules, agreed CBD May 2007 (led by group headed by Richard Porcas)- broadened slightly Nov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ideas for proposal rules discussed at eVSAG – but leave for n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als/Scheduled 2007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nuary 2007: 1/1                           Project year 1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ruary 2007: 1/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ch 2007: 1/2                             Project year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ne 2007 (old rule): 1/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st June 2007 (new rule): 1/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ptember 2007: 1/1  --&gt;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st October 2007: 1/1 (approved but not yet schedu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it is a   triggered propos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st  February 2008, ?/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so far 5/8 in Project year 2,  (compared to 9/13 for last ye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007 Observ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R001, PI: Rushton, observed 29 Janua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T001, PI: Tudose, observed 21 Februa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M001, PI: Marti, observed 28 Mar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L001, PI: Langevelde, observed 21 Augu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P007, PI: Paragi, observed 6 September, To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P006S, PI: Pandey, observed 6 Septemb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so Australian obs of SN1987A, correlated at JIVE (not eEVN) , Tingay paper in pre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p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567440"/>
            <a:ext cx="10215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(Proc. Burst, Pulses and Flickering: Wide-field monitoring of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dynamic radio sky, 12-15 June 2007, Kerastari, Greec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Z. Paragi, H.J. van Langevelde, A. Szomor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Targeting transient phenomena with e-VLBI PoS(Dynamic2007)026,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M. Pandey, Z. Paragi, P. Durouchoux, H. Bignal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High resolution imaging of possible microquasar’, PoS(Dynamic2007)0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Rushton, R. Spencer Adaptive e-VLBI observations of radio emit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da-DK" sz="1600" spc="-1" strike="noStrike">
                <a:solidFill>
                  <a:srgbClr val="ffffff"/>
                </a:solidFill>
                <a:latin typeface="Tahoma"/>
              </a:rPr>
              <a:t>X-ray binaries’. PoS(Dynamic2007)043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From planets to dark energy: the modern radio universe) proceeding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Z. Paragi, Sz. Csizmadia, T. Borkovits, L. Mosoni, L. Sturmann, P. Abraham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. Garret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ARA and e-VLBI observations of Algol’,  PoS(MRU)122 (subitted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bert et al 2008,  astro-ph 0801.3150 'Multi-wavelength (radio, X-r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d gamma-ray) observations of the Gamma ray binary LSI +61 303‘, AJ in pres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437000"/>
            <a:ext cx="66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5661000"/>
            <a:ext cx="655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bert et al 200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6000" y="2276640"/>
            <a:ext cx="892800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-Tel telegram Paragi et 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388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21:17:53Z</dcterms:created>
  <dc:creator> </dc:creator>
  <dc:description/>
  <dc:language>en-US</dc:language>
  <cp:lastModifiedBy>John Conway</cp:lastModifiedBy>
  <dcterms:modified xsi:type="dcterms:W3CDTF">2008-01-30T07:19:27Z</dcterms:modified>
  <cp:revision>27</cp:revision>
  <dc:subject>NORDUnet Vision &amp; Strategy</dc:subject>
  <dc:title>Slide 1</dc:title>
</cp:coreProperties>
</file>